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33AC-9F57-40F2-84C1-4E9C3746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4C3-8A7E-44B9-940B-098AA97C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61F-E776-4407-8B08-B0F0324D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0A5-1F11-4685-8548-EEF5AA0C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3E75-B2A4-4B8C-B7E3-0E97A61D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690F-C2AC-42A7-AD63-8012799B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B063-CA4E-4F94-B362-7A0629D0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5F45-1FDB-41FE-A27F-601EA94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FD5B-EC88-42D4-8294-F36425D3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8160-FDC4-4625-9771-8BA94E3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E62E-95D6-4CFE-B8C9-AA29FCCD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82D-A203-4952-B2A4-F08E8BE0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1364-C658-4BE5-A40E-0FCA10C9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36AE-E965-454F-8B99-789C09D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53A-65AB-4F1A-867B-FE76B514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563E-B440-4AAC-BD16-06083EC0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CD66-DB02-46F9-87DD-0A2A9E61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1B1-31D9-4D76-B4AB-199132B4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E08-DAF3-4E1F-9CC3-0DC79178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6E3-D21E-4563-99B3-F0D9106C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BED-53F6-42A9-8C69-1DDF9054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F62-AC66-489E-9B5D-B4B6018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DDF-8C6D-4F7C-B6D4-3814BD4F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AF6-9A31-4240-BCFC-79084855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5C5-BCE1-446F-9431-5E62D00F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D90E-A8F5-4932-9627-58A10455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49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TIONAL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URADHA MOH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ublin 16-04-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FUNCTIONS OF THE PROPOSED MECHANIS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 as a foc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e and assist other monitoring bodies, regional UN Bodies, NGOs , experts and development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e guidelines for participatory, multisectoral and transparent process of developing action p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line time frame for implementation different for the developed, developing and least developed nationsand in keeping with nature of obl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83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E" sz="3200" spc="-1" strike="noStrike" u="sng">
              <a:solidFill>
                <a:srgbClr val="003366"/>
              </a:solidFill>
              <a:uFillTx/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802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indicators, bench marks to review outcome and imp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education of Convention, and disability from a human rights persp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t as a information hub and clearing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te international cooperation and sharing of best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tain individual compla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 investigations where there are  systemic vio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ibute jurispru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NATIONAL ACTION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States would submit  action plans at the end of fir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te short, medium and long-ter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actions and actors in each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y indicators, outcomes and im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 risks, constraints and other obstac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NATIONAL MONITOR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2666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Article 25 of the working Group contains useful elements and this can be further fine tu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GENERAL PURPOSE OF  MONITOR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effective implementation of the Convention at national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sharing of experience among th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failures that could not be remedied at national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um to develop international jurispru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WHAT MUST BE CONSIDERED?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ations and views of disability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s of the Gover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of treaty body reform by the 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Aspirations and views of disability secto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br>
              <a:rPr sz="40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dependent body would act as a focal point on dis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ould maintain a sharp focus on the rights and freedoms of the disab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positive jurisprud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 quality general comments and concluding observation by taking full account of the specific circumstances of disab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s with demonstrated expertise in and understanding of disability issu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Concerns of the Governments.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reporting bu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resources and technical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usive nature of certain forms of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regard to the autonomy and vast variations in the level of development among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ious complexities of reporting due to feder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Objectives of Treaty Body Reform by UN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tion in the reporting burden and effective engagement of civil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organize international monitoring for efficiency and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duplication of reporting by the States and Treaty Bo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oid delay:  reporting by States; disposal by Treaty Bo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 respect of individual rights by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bridge the gap between the articulation of universal rights and compliance by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28800" y="1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STRUCTURE OF THE PROPOSED MECHANIS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anuradhas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25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QUALIFICATION OF MEMB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 of integrity with human rights and disability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mbers to possess knowledg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 legal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table gender and geographic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NATURE OF THE NEW MECHANIS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 as an expert Committee  in human rights and dis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atalyst to promote implementation and co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acilitator than super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hasize dialogue rather than ju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in partnerships over adversarial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e transparent planning for outcome based repor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07:41:13Z</dcterms:created>
  <dc:creator>Anuradha Mohit</dc:creator>
  <dc:description/>
  <dc:language>en-US</dc:language>
  <cp:lastModifiedBy>dcarolan</cp:lastModifiedBy>
  <dcterms:modified xsi:type="dcterms:W3CDTF">2005-04-20T10:09:50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11573398</vt:r8>
  </property>
  <property fmtid="{D5CDD505-2E9C-101B-9397-08002B2CF9AE}" pid="3" name="_AuthorEmail">
    <vt:lpwstr>mruddy@ihrc.ie</vt:lpwstr>
  </property>
  <property fmtid="{D5CDD505-2E9C-101B-9397-08002B2CF9AE}" pid="4" name="_AuthorEmailDisplayName">
    <vt:lpwstr>mruddy </vt:lpwstr>
  </property>
  <property fmtid="{D5CDD505-2E9C-101B-9397-08002B2CF9AE}" pid="5" name="_EmailSubject">
    <vt:lpwstr>Papers from Seminar</vt:lpwstr>
  </property>
  <property fmtid="{D5CDD505-2E9C-101B-9397-08002B2CF9AE}" pid="6" name="_ReviewingToolsShownOnce">
    <vt:lpwstr/>
  </property>
</Properties>
</file>