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D9C5-9608-4E1F-BFED-C2DE54496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0724-3C00-48B3-9D63-A721DE3A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BA40-8D54-4B20-B9A9-39F66188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44D3-F2F6-4EDF-B688-8B844857F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B081-7AF7-47D3-9921-28B9EA11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A560-1518-4D63-901C-4ED63FC3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1247-A8A6-4CB7-9DDE-DE8808A3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0F1-0E26-46D1-9C4D-4F4113EF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F07B-DDFF-4411-BF5C-D507C593E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CC36-9B5B-4EA5-B4EE-042A97BC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798B-4FBA-4494-8076-A611EF1B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218B-5AAB-4594-8956-C65FC8A7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ADC1-DC94-47EB-B6D5-4466E08DE3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137160" y="0"/>
            <a:ext cx="9083880" cy="2043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Irish Human Rights Com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Conference on Monitoring of Draft Dis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Trea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Dublin, 16 April,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40520" y="2421000"/>
            <a:ext cx="673092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1.  Why a </a:t>
            </a:r>
            <a:r>
              <a:rPr b="1" lang="en-IE" sz="2800" spc="-1" strike="noStrike" u="sng">
                <a:solidFill>
                  <a:srgbClr val="000000"/>
                </a:solidFill>
                <a:uFillTx/>
                <a:latin typeface="Times New Roman"/>
              </a:rPr>
              <a:t>Human Rights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On Disabil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53840" y="3716280"/>
            <a:ext cx="331848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2.  Why a Trea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18080" y="5734080"/>
            <a:ext cx="648252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4.  Key Challenge -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8480" y="4838760"/>
            <a:ext cx="495396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3.  The Treaty Draft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E8A1-C9DC-4692-8848-9567322586E6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819080" y="517680"/>
            <a:ext cx="496296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Existing Monitoring Mechanis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960" y="1844640"/>
            <a:ext cx="28782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Periodic Rep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5960" y="2852640"/>
            <a:ext cx="1820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Compl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6680" y="3933720"/>
            <a:ext cx="15447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Enqui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9600" y="5126040"/>
            <a:ext cx="34390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nter-State Procedu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6463-0E0C-4179-94BE-AEE52472E3F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10480" y="404640"/>
            <a:ext cx="2764080" cy="703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Times New Roman"/>
              </a:rPr>
              <a:t>Big Op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984320" y="1700280"/>
            <a:ext cx="31860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No Monitoring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84680" y="2781360"/>
            <a:ext cx="23356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Ombuds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4680" y="3860640"/>
            <a:ext cx="40744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Normal’ Monitoring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83240" y="4941720"/>
            <a:ext cx="4313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Modified’ Monitoring Bo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1413000"/>
            <a:ext cx="0" cy="4248000"/>
          </a:xfrm>
          <a:prstGeom prst="line">
            <a:avLst/>
          </a:prstGeom>
          <a:ln w="76320">
            <a:solidFill>
              <a:srgbClr val="ff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DFB-6C07-431D-805B-A8B208B5309F}" type="slidenum">
              <a:t>11</a:t>
            </a:fld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500"/>
                            </p:stCondLst>
                            <p:childTnLst>
                              <p:par>
                                <p:cTn id="3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5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08720" y="0"/>
            <a:ext cx="5200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Times New Roman"/>
              </a:rPr>
              <a:t>Misc Web Resource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66520" y="4221000"/>
            <a:ext cx="5307480" cy="825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UN Study on Human Rights &amp;  Dis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99"/>
                </a:solidFill>
                <a:latin typeface="Times New Roman"/>
              </a:rPr>
              <a:t>www.hrhc.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705760" y="1197000"/>
            <a:ext cx="3144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UN Treaty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99"/>
                </a:solidFill>
                <a:latin typeface="Times New Roman"/>
              </a:rPr>
              <a:t>www.un.org/esa/docde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90920" y="5805360"/>
            <a:ext cx="3632040" cy="1052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560680" y="2637000"/>
            <a:ext cx="34513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utput of Working Grou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January 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99"/>
                </a:solidFill>
                <a:latin typeface="Times New Roman"/>
              </a:rPr>
              <a:t>www.disabilityrights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27A-36CE-4155-924F-4E5669A9FBDB}" type="slidenum">
              <a:t>12</a:t>
            </a:fld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3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4500"/>
                            </p:stCondLst>
                            <p:childTnLst>
                              <p:par>
                                <p:cTn id="3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56000" y="1773360"/>
            <a:ext cx="6185160" cy="5814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Why Are Frameworks Important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71640" y="2060640"/>
            <a:ext cx="0" cy="352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1989000"/>
            <a:ext cx="0" cy="3529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2637000"/>
            <a:ext cx="2808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41400" y="2637000"/>
            <a:ext cx="450900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Frames our 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VIEW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of Re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42120" y="4005360"/>
            <a:ext cx="382032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Helps us 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JUDGE 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Re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37800" y="5157720"/>
            <a:ext cx="506988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Inspires us to 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CHANGE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Re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388520" y="0"/>
            <a:ext cx="6730920" cy="9471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1.  Why a </a:t>
            </a:r>
            <a:r>
              <a:rPr b="1" lang="en-IE" sz="2800" spc="-1" strike="noStrike" u="sng">
                <a:solidFill>
                  <a:srgbClr val="000000"/>
                </a:solidFill>
                <a:uFillTx/>
                <a:latin typeface="Times New Roman"/>
              </a:rPr>
              <a:t>Human Rights Frame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On Disabil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C971-2A51-4A35-8FE5-B8E63F962577}" type="slidenum">
              <a:t>2</a:t>
            </a:fld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6000"/>
                            </p:stCondLst>
                            <p:childTnLst>
                              <p:par>
                                <p:cTn id="5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1000"/>
                            </p:stCondLst>
                            <p:childTnLst>
                              <p:par>
                                <p:cTn id="5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1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121400" y="476280"/>
            <a:ext cx="69030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The Human Rights Framework &amp; Dis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2520" y="2514600"/>
            <a:ext cx="106164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5880" y="2514600"/>
            <a:ext cx="102816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000" y="2590920"/>
            <a:ext cx="159048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Invis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Times New Roman"/>
              </a:rPr>
              <a:t>Of  PW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7880" y="3581280"/>
            <a:ext cx="14853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ig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lid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9800" y="3657600"/>
            <a:ext cx="14943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i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oli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conomic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Social 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ul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85800" y="4038480"/>
            <a:ext cx="2444040" cy="155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Negative use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if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iscounted R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648320" y="1523880"/>
            <a:ext cx="0" cy="53341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7CD-3221-48D7-9A50-0CB0F500A86E}" type="slidenum">
              <a:t>3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95080" y="217440"/>
            <a:ext cx="76316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Human Rights Challenge in Context of Dis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2600" y="1185840"/>
            <a:ext cx="703476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o View PWDs as </a:t>
            </a:r>
            <a:r>
              <a:rPr b="1" lang="en-IE" sz="3200" spc="-1" strike="noStrike">
                <a:solidFill>
                  <a:srgbClr val="3333cc"/>
                </a:solidFill>
                <a:latin typeface="Times New Roman"/>
              </a:rPr>
              <a:t>Subjects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Not </a:t>
            </a:r>
            <a:r>
              <a:rPr b="0" lang="en-IE" sz="3200" spc="-1" strike="noStrike">
                <a:solidFill>
                  <a:srgbClr val="ff0000"/>
                </a:solidFill>
                <a:latin typeface="Times New Roman"/>
              </a:rPr>
              <a:t>Objects</a:t>
            </a:r>
            <a:r>
              <a:rPr b="0" lang="en-IE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98760" y="2122560"/>
            <a:ext cx="578304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o View PWDs </a:t>
            </a:r>
            <a:r>
              <a:rPr b="0" lang="en-IE" sz="3200" spc="-1" strike="noStrike">
                <a:solidFill>
                  <a:srgbClr val="ff0000"/>
                </a:solidFill>
                <a:latin typeface="Times New Roman"/>
              </a:rPr>
              <a:t>Not as Problems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but as </a:t>
            </a:r>
            <a:r>
              <a:rPr b="1" lang="en-IE" sz="3200" spc="-1" strike="noStrike">
                <a:solidFill>
                  <a:srgbClr val="3333cc"/>
                </a:solidFill>
                <a:latin typeface="Times New Roman"/>
              </a:rPr>
              <a:t>Rights Holders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3880" y="3494160"/>
            <a:ext cx="7377120" cy="106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To Ensure the </a:t>
            </a:r>
            <a:r>
              <a:rPr b="1" lang="en-IE" sz="3200" spc="-1" strike="noStrike">
                <a:solidFill>
                  <a:srgbClr val="3333cc"/>
                </a:solidFill>
                <a:latin typeface="Times New Roman"/>
              </a:rPr>
              <a:t>Equal Effective Enjoyment</a:t>
            </a: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Times New Roman"/>
              </a:rPr>
              <a:t>of All Human Rights for PW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050920" y="5373720"/>
            <a:ext cx="46292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A Visibility Project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F78-A3C5-4912-9462-6B1B0C757402}" type="slidenum">
              <a:t>4</a:t>
            </a:fld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entr" presetID="9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6500"/>
                            </p:stCondLst>
                            <p:childTnLst>
                              <p:par>
                                <p:cTn id="130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132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69720" y="1295280"/>
            <a:ext cx="10602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CCP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9720" y="2286000"/>
            <a:ext cx="1245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CESC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31560" y="3141720"/>
            <a:ext cx="1296360" cy="265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EDA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igr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969720" y="6095880"/>
            <a:ext cx="7887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752480"/>
            <a:ext cx="3119400" cy="581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 u="sng">
                <a:solidFill>
                  <a:srgbClr val="000000"/>
                </a:solidFill>
                <a:uFillTx/>
                <a:latin typeface="Times New Roman"/>
              </a:rPr>
              <a:t>General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 Trea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2240" y="3419640"/>
            <a:ext cx="303984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matic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Treati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IE" sz="2800" spc="-1" strike="noStrike">
                <a:solidFill>
                  <a:srgbClr val="ff0000"/>
                </a:solidFill>
                <a:latin typeface="Times New Roman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46480" y="5638680"/>
            <a:ext cx="2951640" cy="947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matic</a:t>
            </a: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 Trea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By </a:t>
            </a:r>
            <a:r>
              <a:rPr b="1" lang="en-IE" sz="2800" spc="-1" strike="noStrike">
                <a:solidFill>
                  <a:srgbClr val="ff0066"/>
                </a:solidFill>
                <a:latin typeface="Times New Roman"/>
              </a:rPr>
              <a:t>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0" y="1371600"/>
            <a:ext cx="263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Core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181560" y="2781360"/>
            <a:ext cx="2962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Invisibilit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of Disability in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HR Treaties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/>
          <p:nvPr/>
        </p:nvSpPr>
        <p:spPr>
          <a:xfrm>
            <a:off x="5943600" y="762120"/>
            <a:ext cx="0" cy="60958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57080" y="0"/>
            <a:ext cx="331848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2.  Why a Trea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58B3-25F8-48A4-9FBE-FACC5A8D7F96}" type="slidenum">
              <a:t>5</a:t>
            </a:fld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85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9000"/>
                            </p:stCondLst>
                            <p:childTnLst>
                              <p:par>
                                <p:cTn id="165" nodeType="afterEffect" fill="hold" presetClass="entr" presetID="2" presetSubtype="8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20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25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746800" y="1828800"/>
            <a:ext cx="3506040" cy="64260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o create new la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11160" y="3232080"/>
            <a:ext cx="4826160" cy="1800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o Draw out Entailments of </a:t>
            </a:r>
            <a:r>
              <a:rPr b="1" lang="en-I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isting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Human Rights Law In the Contex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isabili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391800" y="3321000"/>
            <a:ext cx="2110320" cy="192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000000"/>
                </a:solidFill>
                <a:latin typeface="Times New Roman"/>
              </a:rPr>
              <a:t>N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600" spc="-1" strike="noStrike">
                <a:solidFill>
                  <a:srgbClr val="000000"/>
                </a:solidFill>
                <a:latin typeface="Times New Roman"/>
              </a:rPr>
              <a:t>Thematic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Hum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Rights Tre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671920" y="85680"/>
            <a:ext cx="3925080" cy="82512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8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………Purpose of Trea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105520" y="3733920"/>
            <a:ext cx="914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=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30AC-D483-417C-AC41-EFA3925E1DA6}" type="slidenum">
              <a:t>6</a:t>
            </a:fld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6400"/>
                            </p:stCondLst>
                            <p:childTnLst>
                              <p:par>
                                <p:cTn id="2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4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843200" y="333360"/>
            <a:ext cx="495396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Times New Roman"/>
              </a:rPr>
              <a:t>3.  The Treaty Drafting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057040" y="1484280"/>
            <a:ext cx="45943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Sweden &amp; Italy Drafts – 198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46120" y="2276640"/>
            <a:ext cx="395280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UN Standard Rules - 199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5400" y="3141720"/>
            <a:ext cx="473148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UN Human Rights Com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Failed Irish Resolution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280" y="5516640"/>
            <a:ext cx="379116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UN Study on Treaty La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&amp; Disability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10120" y="5589720"/>
            <a:ext cx="37256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UN GA Resolution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9640" y="4797360"/>
            <a:ext cx="18766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Geneva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076720" y="4869000"/>
            <a:ext cx="242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ew Yor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/>
          <p:nvPr/>
        </p:nvSpPr>
        <p:spPr>
          <a:xfrm>
            <a:off x="6877080" y="4508640"/>
            <a:ext cx="2266920" cy="404640"/>
          </a:xfrm>
          <a:custGeom>
            <a:avLst/>
            <a:gdLst>
              <a:gd name="textAreaLeft" fmla="*/ 354240 w 2266920"/>
              <a:gd name="textAreaRight" fmla="*/ 1983600 w 2266920"/>
              <a:gd name="textAreaTop" fmla="*/ 101160 h 404640"/>
              <a:gd name="textAreaBottom" fmla="*/ 303480 h 404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49D5-978A-4A95-8DC2-8D6B0120371F}" type="slidenum">
              <a:t>7</a:t>
            </a:fld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9000"/>
                            </p:stCondLst>
                            <p:childTnLst>
                              <p:par>
                                <p:cTn id="229" nodeType="after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778840" y="0"/>
            <a:ext cx="2960640" cy="52056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d Hoc Commit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5280" y="981000"/>
            <a:ext cx="3882600" cy="56397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IE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Session –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IE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Session –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Working Group –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IE" sz="28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Session –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IE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Session – 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IE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 Session –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0066"/>
                </a:solidFill>
                <a:latin typeface="Times New Roman"/>
              </a:rPr>
              <a:t>6</a:t>
            </a:r>
            <a:r>
              <a:rPr b="0" lang="en-IE" sz="2800" spc="-1" strike="noStrike" baseline="30000">
                <a:solidFill>
                  <a:srgbClr val="ff0066"/>
                </a:solidFill>
                <a:latin typeface="Times New Roman"/>
              </a:rPr>
              <a:t>th</a:t>
            </a:r>
            <a:r>
              <a:rPr b="0" lang="en-IE" sz="2800" spc="-1" strike="noStrike">
                <a:solidFill>
                  <a:srgbClr val="ff0066"/>
                </a:solidFill>
                <a:latin typeface="Times New Roman"/>
              </a:rPr>
              <a:t> Session – August 200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C67F-F4E5-4A6F-9516-9561A620588F}" type="slidenum">
              <a:t>8</a:t>
            </a:fld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377000" y="0"/>
            <a:ext cx="6482520" cy="5814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4.  Key Challenge -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23920" y="5084640"/>
            <a:ext cx="4883760" cy="13737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Stimulate Domestic Law Re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Conscientize Civil Soci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27480" y="68547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45800" y="1916280"/>
            <a:ext cx="5947560" cy="30801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Develop Normative Understand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Propagate insights at Internat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Assis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Times New Roman"/>
              </a:rPr>
              <a:t>Hold States to Accou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360" y="2421000"/>
            <a:ext cx="1342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Int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ve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5157720"/>
            <a:ext cx="2352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omestic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evel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/>
          <p:nvPr/>
        </p:nvSpPr>
        <p:spPr>
          <a:xfrm>
            <a:off x="3063600" y="835200"/>
            <a:ext cx="358848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Times New Roman"/>
              </a:rPr>
              <a:t>PURPOSES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B3FF-DE2A-43D7-9CE8-CBC16AA9E804}" type="slidenum">
              <a:t>9</a:t>
            </a:fld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4000"/>
                            </p:stCondLst>
                            <p:childTnLst>
                              <p:par>
                                <p:cTn id="27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000"/>
                            </p:stCondLst>
                            <p:childTnLst>
                              <p:par>
                                <p:cTn id="2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05T10:59:26Z</dcterms:created>
  <dc:creator>Administrator</dc:creator>
  <dc:description/>
  <dc:language>en-US</dc:language>
  <cp:lastModifiedBy>dcarolan</cp:lastModifiedBy>
  <dcterms:modified xsi:type="dcterms:W3CDTF">2005-04-20T10:09:27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13366528</vt:r8>
  </property>
  <property fmtid="{D5CDD505-2E9C-101B-9397-08002B2CF9AE}" pid="3" name="_AuthorEmail">
    <vt:lpwstr>mruddy@ihrc.ie</vt:lpwstr>
  </property>
  <property fmtid="{D5CDD505-2E9C-101B-9397-08002B2CF9AE}" pid="4" name="_AuthorEmailDisplayName">
    <vt:lpwstr>mruddy </vt:lpwstr>
  </property>
  <property fmtid="{D5CDD505-2E9C-101B-9397-08002B2CF9AE}" pid="5" name="_EmailSubject">
    <vt:lpwstr>Papers from Seminar</vt:lpwstr>
  </property>
  <property fmtid="{D5CDD505-2E9C-101B-9397-08002B2CF9AE}" pid="6" name="_ReviewingToolsShownOnce">
    <vt:lpwstr/>
  </property>
</Properties>
</file>