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86E-3430-4E9A-A648-051D027C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911-C38D-42A4-AF6A-148A0674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2F2-93C5-44FE-8E5F-144ADA7F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1B3-5DCE-4C15-82DA-420B1FF8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325-A31F-422F-934F-922150A8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08F-001E-41BC-A647-7554988D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449-B39B-48E1-9C52-2C977BCD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223-8736-449B-B391-207A52B0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761-F9D2-444E-A756-A6A13C30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A17-5A7D-4993-97D9-FEE94BB3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7A1-6975-4D4F-82BD-3F49172D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630-A7AA-4F40-AB30-F2F4B0B2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6BCB-3DD8-4F4C-81D8-6CFE66FB0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37160" y="0"/>
            <a:ext cx="9083880" cy="2043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Irish Human Rights Com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Conference on Monitoring of Draft Dis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Trea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Dublin, 16 April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0520" y="2421000"/>
            <a:ext cx="673092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1.  Why a </a:t>
            </a:r>
            <a:r>
              <a:rPr b="1" lang="en-IE" sz="2800" spc="-1" strike="noStrike" u="sng">
                <a:solidFill>
                  <a:srgbClr val="000000"/>
                </a:solidFill>
                <a:uFillTx/>
                <a:latin typeface="Times New Roman"/>
              </a:rPr>
              <a:t>Human Rights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On Disabil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53840" y="3716280"/>
            <a:ext cx="331848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2.  Why a Trea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18080" y="5734080"/>
            <a:ext cx="648252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4.  Key Challenge -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8480" y="4838760"/>
            <a:ext cx="495396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3.  The Treaty Draft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FFD-D2F6-4E34-BEAF-A8B7D384F67C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819080" y="517680"/>
            <a:ext cx="496296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Existing Monitoring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960" y="1844640"/>
            <a:ext cx="2878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Periodic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5960" y="2852640"/>
            <a:ext cx="1820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Compl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6680" y="3933720"/>
            <a:ext cx="1544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Enqui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600" y="5126040"/>
            <a:ext cx="3439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nter-State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8F5-23F9-434E-909A-D44CE76ED7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10480" y="404640"/>
            <a:ext cx="2764080" cy="70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Times New Roman"/>
              </a:rPr>
              <a:t>Big 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4320" y="1700280"/>
            <a:ext cx="3186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No Monitoring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4680" y="2781360"/>
            <a:ext cx="23356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Ombuds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4680" y="3860640"/>
            <a:ext cx="4074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Normal’ Monitoring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3240" y="4941720"/>
            <a:ext cx="4313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Modified’ Monitoring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413000"/>
            <a:ext cx="0" cy="4248000"/>
          </a:xfrm>
          <a:prstGeom prst="line">
            <a:avLst/>
          </a:prstGeom>
          <a:ln w="7632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5CA-CB4E-4E73-84E5-5F7FED0D2159}" type="slidenum">
              <a:t>11</a:t>
            </a:fld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08720" y="0"/>
            <a:ext cx="5200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Times New Roman"/>
              </a:rPr>
              <a:t>Misc Web Resource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66520" y="4221000"/>
            <a:ext cx="5307480" cy="825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UN Study on Human Rights &amp;  Di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99"/>
                </a:solidFill>
                <a:latin typeface="Times New Roman"/>
              </a:rPr>
              <a:t>www.hrhc.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05760" y="1197000"/>
            <a:ext cx="3144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UN Treaty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99"/>
                </a:solidFill>
                <a:latin typeface="Times New Roman"/>
              </a:rPr>
              <a:t>www.un.org/esa/doc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90920" y="5805360"/>
            <a:ext cx="3632040" cy="1052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60680" y="2637000"/>
            <a:ext cx="3451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utput of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January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99"/>
                </a:solidFill>
                <a:latin typeface="Times New Roman"/>
              </a:rPr>
              <a:t>www.disabilityright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EB0-828B-4AA5-9626-4D7CD4E8D9FE}" type="slidenum">
              <a:t>12</a:t>
            </a:fld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56000" y="1773360"/>
            <a:ext cx="61851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Why Are Frameworks Important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989000"/>
            <a:ext cx="0" cy="352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2637000"/>
            <a:ext cx="280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41400" y="2637000"/>
            <a:ext cx="450900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Frames our 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of Re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42120" y="4005360"/>
            <a:ext cx="38203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Helps us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JUDGE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37800" y="5157720"/>
            <a:ext cx="506988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nspires us to 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Re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88520" y="0"/>
            <a:ext cx="673092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1.  Why a </a:t>
            </a:r>
            <a:r>
              <a:rPr b="1" lang="en-IE" sz="2800" spc="-1" strike="noStrike" u="sng">
                <a:solidFill>
                  <a:srgbClr val="000000"/>
                </a:solidFill>
                <a:uFillTx/>
                <a:latin typeface="Times New Roman"/>
              </a:rPr>
              <a:t>Human Rights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On Disabil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6A6-FF5E-49D9-A3A6-59EFB9B03DBD}" type="slidenum">
              <a:t>2</a:t>
            </a:fld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21400" y="476280"/>
            <a:ext cx="6903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The Human Rights Framework &amp; Dis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2520" y="2514600"/>
            <a:ext cx="10616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5880" y="2514600"/>
            <a:ext cx="102816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000" y="2590920"/>
            <a:ext cx="15904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In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Of  PW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7880" y="3581280"/>
            <a:ext cx="14853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ig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lid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9800" y="3657600"/>
            <a:ext cx="14943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conomi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cial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5800" y="4038480"/>
            <a:ext cx="24440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Negative us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iscounted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523880"/>
            <a:ext cx="0" cy="5334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FC4-8244-4874-AA4D-01453A37362D}" type="slidenum">
              <a:t>3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95080" y="217440"/>
            <a:ext cx="76316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Human Rights Challenge in Context of Dis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2600" y="1185840"/>
            <a:ext cx="703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o View PWDs as </a:t>
            </a:r>
            <a:r>
              <a:rPr b="1" lang="en-IE" sz="3200" spc="-1" strike="noStrike">
                <a:solidFill>
                  <a:srgbClr val="3333cc"/>
                </a:solidFill>
                <a:latin typeface="Times New Roman"/>
              </a:rPr>
              <a:t>Subjects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0" lang="en-IE" sz="3200" spc="-1" strike="noStrike">
                <a:solidFill>
                  <a:srgbClr val="ff0000"/>
                </a:solidFill>
                <a:latin typeface="Times New Roman"/>
              </a:rPr>
              <a:t>Objects</a:t>
            </a:r>
            <a:r>
              <a:rPr b="0" lang="en-IE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98760" y="2122560"/>
            <a:ext cx="57830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o View PWDs </a:t>
            </a:r>
            <a:r>
              <a:rPr b="0" lang="en-IE" sz="3200" spc="-1" strike="noStrike">
                <a:solidFill>
                  <a:srgbClr val="ff0000"/>
                </a:solidFill>
                <a:latin typeface="Times New Roman"/>
              </a:rPr>
              <a:t>Not as Problems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but as </a:t>
            </a:r>
            <a:r>
              <a:rPr b="1" lang="en-IE" sz="3200" spc="-1" strike="noStrike">
                <a:solidFill>
                  <a:srgbClr val="3333cc"/>
                </a:solidFill>
                <a:latin typeface="Times New Roman"/>
              </a:rPr>
              <a:t>Rights Holders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3880" y="3494160"/>
            <a:ext cx="73771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o Ensure the </a:t>
            </a:r>
            <a:r>
              <a:rPr b="1" lang="en-IE" sz="3200" spc="-1" strike="noStrike">
                <a:solidFill>
                  <a:srgbClr val="3333cc"/>
                </a:solidFill>
                <a:latin typeface="Times New Roman"/>
              </a:rPr>
              <a:t>Equal Effective Enjoyment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of All Human Rights for PW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050920" y="5373720"/>
            <a:ext cx="4629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 Visibility Projec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C87-9C5A-4479-9DEC-376CFFFD2480}" type="slidenum">
              <a:t>4</a:t>
            </a:fld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69720" y="1295280"/>
            <a:ext cx="106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CC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9720" y="2286000"/>
            <a:ext cx="1245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CES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31560" y="3141720"/>
            <a:ext cx="12963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ED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i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9720" y="6095880"/>
            <a:ext cx="788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752480"/>
            <a:ext cx="311940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Times New Roman"/>
              </a:rPr>
              <a:t>General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 Tre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2240" y="3419640"/>
            <a:ext cx="303984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matic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Trea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IE" sz="2800" spc="-1" strike="noStrike">
                <a:solidFill>
                  <a:srgbClr val="ff0000"/>
                </a:solidFill>
                <a:latin typeface="Times New Roman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6480" y="5638680"/>
            <a:ext cx="295164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matic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Tre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IE" sz="2800" spc="-1" strike="noStrike">
                <a:solidFill>
                  <a:srgbClr val="ff0066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0" y="1371600"/>
            <a:ext cx="26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Cor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81560" y="2781360"/>
            <a:ext cx="2962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nvisibilit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of Disability i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HR Treati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762120"/>
            <a:ext cx="0" cy="6095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57080" y="0"/>
            <a:ext cx="331848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2.  Why a Trea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E38-D6B4-4299-9528-75ADF1FD5028}" type="slidenum">
              <a:t>5</a:t>
            </a:fld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9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746800" y="1828800"/>
            <a:ext cx="3506040" cy="642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o create new la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11160" y="3232080"/>
            <a:ext cx="4826160" cy="1800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o Draw out Entailments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isting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Human Rights Law In the Contex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is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91800" y="3321000"/>
            <a:ext cx="2110320" cy="192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Thematic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Hu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ights Tre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71920" y="85680"/>
            <a:ext cx="3925080" cy="8251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………Purpose of Tre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105520" y="373392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=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446-7631-4103-A426-BDB79595AF39}" type="slidenum">
              <a:t>6</a:t>
            </a:fld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400"/>
                            </p:stCondLst>
                            <p:childTnLst>
                              <p:par>
                                <p:cTn id="2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4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43200" y="333360"/>
            <a:ext cx="495396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3.  The Treaty Draft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040" y="1484280"/>
            <a:ext cx="45943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Sweden &amp; Italy Drafts – 198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46120" y="2276640"/>
            <a:ext cx="39528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UN Standard Rules - 19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5400" y="3141720"/>
            <a:ext cx="47314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UN Human Rights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Failed Irish Resolution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280" y="5516640"/>
            <a:ext cx="37911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UN Study on Treaty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&amp; Disability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10120" y="5589720"/>
            <a:ext cx="3725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UN GA Resolution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4797360"/>
            <a:ext cx="1876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enev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76720" y="4869000"/>
            <a:ext cx="242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ew Yor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6877080" y="4508640"/>
            <a:ext cx="2266920" cy="404640"/>
          </a:xfrm>
          <a:custGeom>
            <a:avLst/>
            <a:gdLst>
              <a:gd name="textAreaLeft" fmla="*/ 354240 w 2266920"/>
              <a:gd name="textAreaRight" fmla="*/ 1983600 w 2266920"/>
              <a:gd name="textAreaTop" fmla="*/ 101160 h 404640"/>
              <a:gd name="textAreaBottom" fmla="*/ 303480 h 404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BEA-6697-4D20-BEAA-92EBBD33838B}" type="slidenum">
              <a:t>7</a:t>
            </a:fld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78840" y="0"/>
            <a:ext cx="296064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d Hoc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5280" y="981000"/>
            <a:ext cx="3882600" cy="56397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IE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Session –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IE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Session –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Working Group –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IE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Session –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IE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Session –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IE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Session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66"/>
                </a:solidFill>
                <a:latin typeface="Times New Roman"/>
              </a:rPr>
              <a:t>6</a:t>
            </a:r>
            <a:r>
              <a:rPr b="0" lang="en-IE" sz="2800" spc="-1" strike="noStrike" baseline="30000">
                <a:solidFill>
                  <a:srgbClr val="ff0066"/>
                </a:solidFill>
                <a:latin typeface="Times New Roman"/>
              </a:rPr>
              <a:t>th</a:t>
            </a:r>
            <a:r>
              <a:rPr b="0" lang="en-IE" sz="2800" spc="-1" strike="noStrike">
                <a:solidFill>
                  <a:srgbClr val="ff0066"/>
                </a:solidFill>
                <a:latin typeface="Times New Roman"/>
              </a:rPr>
              <a:t> Session – August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30E-1B4E-4F60-9B79-4E361F8E861C}" type="slidenum">
              <a:t>8</a:t>
            </a:fld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7000" y="0"/>
            <a:ext cx="648252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4.  Key Challenge -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23920" y="5084640"/>
            <a:ext cx="4883760" cy="13737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Stimulate Domestic Law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Conscientize Civil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27480" y="6854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45800" y="1916280"/>
            <a:ext cx="5947560" cy="3080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evelop Normative 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Propagate insights at Internat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ssis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Hold States to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421000"/>
            <a:ext cx="1342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ve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5157720"/>
            <a:ext cx="2352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mesti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ve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063600" y="835200"/>
            <a:ext cx="35884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Times New Roman"/>
              </a:rPr>
              <a:t>PURPOSE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394-EBC2-4F76-9260-3B2C9D2081CE}" type="slidenum">
              <a:t>9</a:t>
            </a:fld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10:59:26Z</dcterms:created>
  <dc:creator>Administrator</dc:creator>
  <dc:description/>
  <dc:language>en-US</dc:language>
  <cp:lastModifiedBy>dcarolan</cp:lastModifiedBy>
  <dcterms:modified xsi:type="dcterms:W3CDTF">2005-04-20T10:09:27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13366528</vt:r8>
  </property>
  <property fmtid="{D5CDD505-2E9C-101B-9397-08002B2CF9AE}" pid="3" name="_AuthorEmail">
    <vt:lpwstr>mruddy@ihrc.ie</vt:lpwstr>
  </property>
  <property fmtid="{D5CDD505-2E9C-101B-9397-08002B2CF9AE}" pid="4" name="_AuthorEmailDisplayName">
    <vt:lpwstr>mruddy </vt:lpwstr>
  </property>
  <property fmtid="{D5CDD505-2E9C-101B-9397-08002B2CF9AE}" pid="5" name="_EmailSubject">
    <vt:lpwstr>Papers from Seminar</vt:lpwstr>
  </property>
  <property fmtid="{D5CDD505-2E9C-101B-9397-08002B2CF9AE}" pid="6" name="_ReviewingToolsShownOnce">
    <vt:lpwstr/>
  </property>
</Properties>
</file>