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B14DE-9344-4F07-B711-548CF53B5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397D-CBBA-47B0-BDBA-F88E2296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8B45E-6E98-4491-BE1B-D8099A43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7E257-1220-42F2-899F-37BCE45C7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EF189-B114-4BC1-B3CB-D86E5AEE9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F7EAC-E001-47AC-A4D8-EF59467F3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E2AA-F818-4B6D-9574-D8620A12D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5A783-5D72-487D-9BA9-B0B9A7D1A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16CC5-DAD8-4C8A-A56F-D816E0F11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D54B8-E540-467C-9182-C08BB5585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9CF7B-AE80-48F0-A415-E8F81DF24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8B679-5DCE-4676-B58F-E00BBBBE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E4AD3-C596-4F3F-B031-F04583C4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CEE4-7D92-44C3-A913-CAA98299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763B1-D0F5-4F32-BB0A-F6481A1F9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C3E70-8FC9-4885-A7FC-6627F8014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350CC-59E6-477C-93BF-C0F1B9FC1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AAEEA-99CE-4724-8CBA-40AA1CF4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6B15-D3D9-466F-956C-72F7C02CC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845F-E68F-452C-9B37-1466D737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6DE4-1045-4CE2-B01D-16B83339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D536-354F-4E79-A3BA-366DB7C2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C1BB-C93F-43AB-878F-64821D5C7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46BD8-B3CF-4A77-ABAE-3BDE592D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6D04-CF3D-409C-AFCE-2A96DEFD4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126C-EB63-475F-9E0E-442F59008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nprouvez@ohchr.org"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feec94"/>
                </a:solidFill>
                <a:latin typeface="Arial Black"/>
              </a:rPr>
              <a:t>CERD</a:t>
            </a:r>
            <a:br>
              <a:rPr sz="4800"/>
            </a:br>
            <a:r>
              <a:rPr b="1" lang="fr-CH" sz="4800" spc="-1" strike="noStrike">
                <a:solidFill>
                  <a:srgbClr val="feec94"/>
                </a:solidFill>
                <a:latin typeface="Arial Black"/>
              </a:rPr>
              <a:t>FOLLOW-UP PROCEDURE</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ffffff"/>
                </a:solidFill>
                <a:latin typeface="Arial Black"/>
              </a:rPr>
              <a:t>OVERVIEW</a:t>
            </a:r>
            <a:endParaRPr b="0" lang="en-US" sz="3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Examples of Priority Issues</a:t>
            </a:r>
            <a:endParaRPr b="1" lang="en-US" sz="4400" spc="-1" strike="noStrike">
              <a:solidFill>
                <a:srgbClr val="feec94"/>
              </a:solidFill>
              <a:latin typeface="Times New Roman"/>
            </a:endParaRPr>
          </a:p>
        </p:txBody>
      </p:sp>
      <p:sp>
        <p:nvSpPr>
          <p:cNvPr id="139" name="PlaceHolder 2"/>
          <p:cNvSpPr>
            <a:spLocks noGrp="1"/>
          </p:cNvSpPr>
          <p:nvPr>
            <p:ph/>
          </p:nvPr>
        </p:nvSpPr>
        <p:spPr>
          <a:xfrm>
            <a:off x="539640" y="206064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Existence of specific legislation to protect minor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Instances of hate speech against national and ethnic minor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Equal enjoyment of ESC rights by traveller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Treatment of non-citizens: asylum-seekers, migrants and refugees.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Ireland</a:t>
            </a:r>
            <a:br>
              <a:rPr sz="4000"/>
            </a:br>
            <a:r>
              <a:rPr b="1" lang="fr-CH" sz="4000" spc="-1" strike="noStrike">
                <a:solidFill>
                  <a:srgbClr val="feec94"/>
                </a:solidFill>
                <a:latin typeface="Arial Black"/>
              </a:rPr>
              <a:t>Concluding Observations</a:t>
            </a:r>
            <a:endParaRPr b="1" lang="en-US" sz="40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The Committee recommends that the State party submit its third and fourth periodic reports, due on 28 January 2008, jointly and that it address therein all points raised in the present concluding observations » (Ireland, 2005)</a:t>
            </a:r>
            <a:endParaRPr b="0" lang="en-US" sz="32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140"/>
                                        </p:tgtEl>
                                        <p:attrNameLst>
                                          <p:attrName>style.visibility</p:attrName>
                                        </p:attrNameLst>
                                      </p:cBhvr>
                                      <p:to>
                                        <p:strVal val="visible"/>
                                      </p:to>
                                    </p:set>
                                    <p:anim calcmode="lin" valueType="num">
                                      <p:cBhvr additive="repl">
                                        <p:cTn id="19" dur="500" fill="hold"/>
                                        <p:tgtEl>
                                          <p:spTgt spid="140"/>
                                        </p:tgtEl>
                                        <p:attrNameLst>
                                          <p:attrName>ppt_w</p:attrName>
                                        </p:attrNameLst>
                                      </p:cBhvr>
                                      <p:tavLst>
                                        <p:tav tm="0">
                                          <p:val>
                                            <p:fltVal val="0"/>
                                          </p:val>
                                        </p:tav>
                                        <p:tav tm="100000">
                                          <p:val>
                                            <p:strVal val="#ppt_w"/>
                                          </p:val>
                                        </p:tav>
                                      </p:tavLst>
                                    </p:anim>
                                    <p:anim calcmode="lin" valueType="num">
                                      <p:cBhvr additive="repl">
                                        <p:cTn id="20" dur="500" fill="hold"/>
                                        <p:tgtEl>
                                          <p:spTgt spid="140"/>
                                        </p:tgtEl>
                                        <p:attrNameLst>
                                          <p:attrName>ppt_h</p:attrName>
                                        </p:attrNameLst>
                                      </p:cBhvr>
                                      <p:tavLst>
                                        <p:tav tm="0">
                                          <p:val>
                                            <p:fltVal val="0"/>
                                          </p:val>
                                        </p:tav>
                                        <p:tav tm="100000">
                                          <p:val>
                                            <p:strVal val="#ppt_h"/>
                                          </p:val>
                                        </p:tav>
                                      </p:tavLst>
                                    </p:anim>
                                    <p:animEffect filter="fade" transition="in">
                                      <p:cBhvr additive="repl">
                                        <p:cTn id="2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What is done with the information received?</a:t>
            </a:r>
            <a:endParaRPr b="1" lang="en-US" sz="40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Coordinator analyses and assesses information received in consultation with the country rapporteu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He/she may recommend appropriate action by Committee when presenting their </a:t>
            </a:r>
            <a:r>
              <a:rPr b="0" lang="en-GB" sz="2800" spc="-1" strike="noStrike">
                <a:solidFill>
                  <a:srgbClr val="ffffff"/>
                </a:solidFill>
                <a:latin typeface="Arial Black"/>
              </a:rPr>
              <a:t>progress report to the Committee in sessio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Arial Black"/>
              </a:rPr>
              <a:t>Appropriate Action/Formal Recommendations</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The Committee may take note of the informa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t may request further information in the State party’s next repo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t may remind the State party of previous recommendations and obligations under the Conven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State party may be requested to send report at an earlier d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Format of Proceeding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Private meet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Arial Black"/>
              </a:rPr>
              <a:t>Committee reports to the General Assembly</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Findings are included in a chapter of the annual report on follow-up activ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Where no information is received in spite of reminders, it will be recorded in subsequent reports to the General Assembl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dditional information received from States parties will be made avail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Arial Black"/>
              </a:rPr>
              <a:t>Role of NHRI and NGOs</a:t>
            </a: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mportant role of NHRI/NGO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nput into follow-up process through dialogue with Government in national for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nput through provision of information to the follow-up coordinator</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Times New Roman"/>
              </a:rPr>
              <a:t>For more information, contact</a:t>
            </a:r>
            <a:r>
              <a:rPr b="1" lang="fr-CH" sz="5400" spc="-1" strike="noStrike">
                <a:solidFill>
                  <a:srgbClr val="feec94"/>
                </a:solidFill>
                <a:latin typeface="Times New Roman"/>
              </a:rPr>
              <a:t>:</a:t>
            </a:r>
            <a:endParaRPr b="1" lang="en-US" sz="5400" spc="-1" strike="noStrike">
              <a:solidFill>
                <a:srgbClr val="feec94"/>
              </a:solidFill>
              <a:latin typeface="Times New Roman"/>
            </a:endParaRPr>
          </a:p>
        </p:txBody>
      </p:sp>
      <p:sp>
        <p:nvSpPr>
          <p:cNvPr id="153" name="PlaceHolder 2"/>
          <p:cNvSpPr>
            <a:spLocks noGrp="1"/>
          </p:cNvSpPr>
          <p:nvPr>
            <p:ph type="subTitle"/>
          </p:nvPr>
        </p:nvSpPr>
        <p:spPr>
          <a:xfrm>
            <a:off x="1258920" y="15573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Times New Roman"/>
              </a:rPr>
              <a:t>Secretariat of CERD</a:t>
            </a:r>
            <a:r>
              <a:rPr b="0" lang="fr-CH" sz="2800" spc="-1" strike="noStrike">
                <a:solidFill>
                  <a:srgbClr val="ffffff"/>
                </a:solidFill>
                <a:latin typeface="Times New Roman"/>
              </a:rPr>
              <a:t>:</a:t>
            </a:r>
            <a:endParaRPr b="0" lang="en-US" sz="28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Nathalie Prouvez, Secretary</a:t>
            </a:r>
            <a:endParaRPr b="0" lang="en-US" sz="24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ffffcc"/>
                </a:solidFill>
                <a:uFillTx/>
                <a:latin typeface="Times New Roman"/>
                <a:hlinkClick r:id="rId1"/>
              </a:rPr>
              <a:t>nprouvez@ohchr.org</a:t>
            </a:r>
            <a:endParaRPr b="0" lang="en-US" sz="20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imes New Roman"/>
              </a:rPr>
              <a:t>Tel: 00 41 22 917 9309</a:t>
            </a:r>
            <a:endParaRPr b="0" lang="en-US" sz="20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imes New Roman"/>
              </a:rPr>
              <a:t>Fax: 00 41 22 917 9022</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Office of the UN High Commissioner for Human Rights</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Palais Wilson</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Geneva, Switzerlan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Rule 65 of rules of procedure</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The Committee may:</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request an additional report or further information from a State party under the provisions of art.9, para.1, of the Convention; </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indicate the manner as well as the time within which such additional reports or further information shall be supplied;</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transmit its decision to the Secretary-General for communication, within two weeks, to the State party concerned. </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2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2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64</a:t>
            </a:r>
            <a:r>
              <a:rPr b="1" lang="fr-CH" sz="4400" spc="-1" strike="noStrike" baseline="30000">
                <a:solidFill>
                  <a:srgbClr val="feec94"/>
                </a:solidFill>
                <a:latin typeface="Arial Black"/>
              </a:rPr>
              <a:t>th</a:t>
            </a:r>
            <a:r>
              <a:rPr b="1" lang="fr-CH" sz="4400" spc="-1" strike="noStrike">
                <a:solidFill>
                  <a:srgbClr val="feec94"/>
                </a:solidFill>
                <a:latin typeface="Arial Black"/>
              </a:rPr>
              <a:t> session, March 2004</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Amendment of rules of procedur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 In order to further the implementation of the above paragraph, the Committee shall appoint a coordinator for a period of two years. In fulfilling his/her tasks, the coordintor shall cooperate with country rapporteurs. » (Rule 65, para.2)</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Arial Black"/>
              </a:rPr>
              <a:t>August 2004</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Appointment of Coordinat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Mr. Morten Kjaerum ( Danis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member of the Committe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a:t>
            </a:r>
            <a:r>
              <a:rPr b="0" lang="fr-CH" sz="3200" spc="-1" strike="noStrike">
                <a:solidFill>
                  <a:srgbClr val="ffffff"/>
                </a:solidFill>
                <a:latin typeface="Arial Black"/>
              </a:rPr>
              <a:t>Alternate: Mr. Amir ( Algerian member of the Committee)</a:t>
            </a:r>
            <a:endParaRPr b="0" lang="en-US" sz="32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eec94"/>
                </a:solidFill>
                <a:latin typeface="Arial Black"/>
              </a:rPr>
              <a:t>Precedents</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Human Rights Committee (2001)</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a follow-up procedure shall be employed in order to establish, maintain or restore a dialogue with the State party » </a:t>
            </a:r>
            <a:r>
              <a:rPr b="0" lang="fr-CH" sz="2400" spc="-1" strike="noStrike">
                <a:solidFill>
                  <a:srgbClr val="ffffff"/>
                </a:solidFill>
                <a:latin typeface="Arial Black"/>
              </a:rPr>
              <a:t>(General Comment No.30, para.5 (2002)</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Committee against Torture (2002)</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Terms of Reference</a:t>
            </a:r>
            <a:endParaRPr b="1" lang="en-US" sz="40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Adopted in March 2005</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Coordinator responsible for:</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 </a:t>
            </a:r>
            <a:r>
              <a:rPr b="0" lang="en-GB" sz="2800" spc="-1" strike="noStrike">
                <a:solidFill>
                  <a:srgbClr val="ffffff"/>
                </a:solidFill>
                <a:latin typeface="Arial Black"/>
              </a:rPr>
              <a:t>monitoring compliance;</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municating with the State party;</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recommending appropriate action to the Committe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What should the State party do?</a:t>
            </a:r>
            <a:endParaRPr b="1" lang="en-US" sz="40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Send information in a timely manner to the Committee on follow-up to recommendations included in the concluding observ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Compliance with Deadlines</a:t>
            </a:r>
            <a:endParaRPr b="1" lang="en-US" sz="40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The coordinator is charged with ensuring deadlines fixed by the Committee are respected by the State part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Reminders will be sent within one month of the expiry of a deadli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Follow-up to Prioritized Recommendations</a:t>
            </a:r>
            <a:endParaRPr b="1" lang="en-US" sz="40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 Pursuant to article 9, paragraph 1, of the Convention, and article 65 of the Committee’s rules of procedure, as amended, the Committee requests the State party to inform it of its implementation of the recommendations contained in paragraphs 13, 14 and 16 above, within one year of the adoption of the present conclusions » (France, 2005)</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2:41:46Z</dcterms:created>
  <dc:creator>bidault</dc:creator>
  <dc:description/>
  <dc:language>en-US</dc:language>
  <cp:lastModifiedBy>dcarolan</cp:lastModifiedBy>
  <dcterms:modified xsi:type="dcterms:W3CDTF">2006-02-13T16:01:38Z</dcterms:modified>
  <cp:revision>92</cp:revision>
  <dc:subject/>
  <dc:title>LES RAPPORTS NATIONAU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0714847</vt:r8>
  </property>
  <property fmtid="{D5CDD505-2E9C-101B-9397-08002B2CF9AE}" pid="3" name="_AuthorEmail">
    <vt:lpwstr>mruddy@ihrc.ie</vt:lpwstr>
  </property>
  <property fmtid="{D5CDD505-2E9C-101B-9397-08002B2CF9AE}" pid="4" name="_AuthorEmailDisplayName">
    <vt:lpwstr>mruddy </vt:lpwstr>
  </property>
  <property fmtid="{D5CDD505-2E9C-101B-9397-08002B2CF9AE}" pid="5" name="_EmailSubject">
    <vt:lpwstr>For website</vt:lpwstr>
  </property>
  <property fmtid="{D5CDD505-2E9C-101B-9397-08002B2CF9AE}" pid="6" name="_ReviewingToolsShownOnce">
    <vt:lpwstr/>
  </property>
</Properties>
</file>