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39CC6-7C05-45AB-BE1C-8E8A9DD307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CA021-DE41-4733-9977-D772698588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38C46-F615-4BC9-B5BE-3F1550882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0466A-B380-46F8-BE03-450275C22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2EF88-7B2E-442F-831C-CF1E647DD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312B0-F456-4CBF-B0AF-9947E0F65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E788B-3497-422B-A7FC-9C0D4988A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9E64D-E49F-4FDE-BEDB-FE72C2882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3E824-FE94-4B49-BB11-5C7141234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EC7B8-1FF8-4D2C-8F58-20D57345C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8B9A2-865C-4937-A3C8-3E3E6E60D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EDD32-8428-441E-A96E-C823DEF71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9D644-08BA-4181-A35E-D8897529B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5305A-1D29-48AA-A2DD-815C6E6B9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7C216-2CF4-4328-930B-257108AFB6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3357720"/>
            <a:ext cx="784548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IE" sz="3200" spc="-1" strike="noStrike" u="sng">
                <a:solidFill>
                  <a:srgbClr val="990033"/>
                </a:solidFill>
                <a:uFillTx/>
                <a:latin typeface="Arial"/>
                <a:ea typeface="Times New Roman"/>
              </a:rPr>
              <a:t>International Human Rights Law and State Practice</a:t>
            </a:r>
            <a:br>
              <a:rPr sz="3200"/>
            </a:br>
            <a:br>
              <a:rPr sz="3200"/>
            </a:br>
            <a:r>
              <a:rPr b="1" lang="ga-IE" sz="2000" spc="-1" strike="noStrike">
                <a:solidFill>
                  <a:srgbClr val="000000"/>
                </a:solidFill>
                <a:latin typeface="Arial Black"/>
                <a:ea typeface="Times New Roman"/>
              </a:rPr>
              <a:t>Sex Trafficking and Prostitution: </a:t>
            </a:r>
            <a:br>
              <a:rPr sz="2000"/>
            </a:br>
            <a:r>
              <a:rPr b="1" lang="ga-IE" sz="2000" spc="-1" strike="noStrike">
                <a:solidFill>
                  <a:srgbClr val="000000"/>
                </a:solidFill>
                <a:latin typeface="Arial Black"/>
                <a:ea typeface="Times New Roman"/>
              </a:rPr>
              <a:t>The Dilemma of Demand</a:t>
            </a:r>
            <a:br>
              <a:rPr sz="2000"/>
            </a:br>
            <a:r>
              <a:rPr b="0" lang="en-GB" sz="2000" spc="-1" strike="noStrike">
                <a:solidFill>
                  <a:srgbClr val="000000"/>
                </a:solidFill>
                <a:latin typeface="Arial"/>
                <a:ea typeface="Times New Roman"/>
              </a:rPr>
              <a:t> </a:t>
            </a:r>
            <a:br>
              <a:rPr sz="2000"/>
            </a:br>
            <a:r>
              <a:rPr b="1" i="1" lang="en-IE" sz="2000" spc="-1" strike="noStrike">
                <a:solidFill>
                  <a:srgbClr val="000000"/>
                </a:solidFill>
                <a:latin typeface="Arial"/>
              </a:rPr>
              <a:t>T</a:t>
            </a:r>
            <a:r>
              <a:rPr b="1" i="1" lang="en-IE" sz="2000" spc="-1" strike="noStrike">
                <a:solidFill>
                  <a:srgbClr val="000000"/>
                </a:solidFill>
                <a:latin typeface="Arial"/>
                <a:ea typeface="Times New Roman"/>
              </a:rPr>
              <a:t>uesday, </a:t>
            </a:r>
            <a:r>
              <a:rPr b="1" lang="en-IE" sz="2000" spc="-1" strike="noStrike">
                <a:solidFill>
                  <a:srgbClr val="000000"/>
                </a:solidFill>
                <a:latin typeface="Arial"/>
                <a:ea typeface="Times New Roman"/>
              </a:rPr>
              <a:t>23</a:t>
            </a:r>
            <a:r>
              <a:rPr b="1" lang="en-IE" sz="2000" spc="-1" strike="noStrike" baseline="30000">
                <a:solidFill>
                  <a:srgbClr val="000000"/>
                </a:solidFill>
                <a:latin typeface="Arial"/>
                <a:ea typeface="Times New Roman"/>
              </a:rPr>
              <a:t>rd</a:t>
            </a:r>
            <a:r>
              <a:rPr b="1" lang="en-IE" sz="2000" spc="-1" strike="noStrike">
                <a:solidFill>
                  <a:srgbClr val="000000"/>
                </a:solidFill>
                <a:latin typeface="Arial"/>
                <a:ea typeface="Times New Roman"/>
              </a:rPr>
              <a:t> June 2009</a:t>
            </a:r>
            <a:endParaRPr b="0" lang="en-US" sz="2000" spc="-1" strike="noStrike">
              <a:solidFill>
                <a:srgbClr val="000000"/>
              </a:solidFill>
              <a:latin typeface="Arial"/>
            </a:endParaRPr>
          </a:p>
        </p:txBody>
      </p:sp>
      <p:sp>
        <p:nvSpPr>
          <p:cNvPr id="49" name="Rectangle 3"/>
          <p:cNvSpPr/>
          <p:nvPr/>
        </p:nvSpPr>
        <p:spPr>
          <a:xfrm>
            <a:off x="3662280" y="2828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4" descr="cid:image001.gif@01C9E9C9.00FEB2C0"/>
          <p:cNvPicPr/>
          <p:nvPr/>
        </p:nvPicPr>
        <p:blipFill>
          <a:blip r:embed="rId1"/>
          <a:stretch/>
        </p:blipFill>
        <p:spPr>
          <a:xfrm>
            <a:off x="826920" y="404640"/>
            <a:ext cx="3024360" cy="1994040"/>
          </a:xfrm>
          <a:prstGeom prst="rect">
            <a:avLst/>
          </a:prstGeom>
          <a:ln w="0">
            <a:noFill/>
          </a:ln>
        </p:spPr>
      </p:pic>
      <p:sp>
        <p:nvSpPr>
          <p:cNvPr id="51" name="Rectangle 5"/>
          <p:cNvSpPr/>
          <p:nvPr/>
        </p:nvSpPr>
        <p:spPr>
          <a:xfrm>
            <a:off x="2895480" y="2838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6" descr="cid:image002.gif@01C9E9C9.00FEB2C0"/>
          <p:cNvPicPr/>
          <p:nvPr/>
        </p:nvPicPr>
        <p:blipFill>
          <a:blip r:embed="rId2"/>
          <a:stretch/>
        </p:blipFill>
        <p:spPr>
          <a:xfrm>
            <a:off x="4356000" y="404640"/>
            <a:ext cx="4289400" cy="1511640"/>
          </a:xfrm>
          <a:prstGeom prst="rect">
            <a:avLst/>
          </a:prstGeom>
          <a:ln w="0">
            <a:noFill/>
          </a:ln>
        </p:spPr>
      </p:pic>
      <p:sp>
        <p:nvSpPr>
          <p:cNvPr id="53" name="Rectangle 7"/>
          <p:cNvSpPr/>
          <p:nvPr/>
        </p:nvSpPr>
        <p:spPr>
          <a:xfrm>
            <a:off x="3005280" y="319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8" descr="cid:image003.gif@01C9E9C9.00FEB2C0"/>
          <p:cNvPicPr/>
          <p:nvPr/>
        </p:nvPicPr>
        <p:blipFill>
          <a:blip r:embed="rId3"/>
          <a:stretch/>
        </p:blipFill>
        <p:spPr>
          <a:xfrm>
            <a:off x="1979640" y="2349360"/>
            <a:ext cx="5256360" cy="79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uncil of Europe Convention on Action against Trafficking in Human Beings</a:t>
            </a: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360" y="1860480"/>
            <a:ext cx="8435880" cy="4997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 6 – Measures to discourage the deman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t>
            </a:r>
            <a:r>
              <a:rPr b="0" lang="en-US" sz="2000" spc="-1" strike="noStrike">
                <a:solidFill>
                  <a:srgbClr val="ff3300"/>
                </a:solidFill>
                <a:latin typeface="Arial"/>
              </a:rPr>
              <a:t>discourage the demand that fosters all forms of exploitation of persons, especially women and children</a:t>
            </a:r>
            <a:r>
              <a:rPr b="0" lang="en-US" sz="2000" spc="-1" strike="noStrike">
                <a:solidFill>
                  <a:srgbClr val="000000"/>
                </a:solidFill>
                <a:latin typeface="Arial"/>
              </a:rPr>
              <a:t>, that leads to trafficking, each Party shall adopt or strengthen legislative, administrative, educational, social, cultural or other measures includ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search on best practices, methods and strateg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raising awareness of the responsibility and important role of media and civil society in identifying the demand as one of the root causes of trafficking in human being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target information campaigns involving, as appropriate, inter alia, public authorities and policy mak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a:t>
            </a:r>
            <a:r>
              <a:rPr b="0" lang="en-US" sz="2000" spc="-1" strike="noStrike">
                <a:solidFill>
                  <a:srgbClr val="ff3300"/>
                </a:solidFill>
                <a:latin typeface="Arial"/>
              </a:rPr>
              <a:t>preventive measures</a:t>
            </a:r>
            <a:r>
              <a:rPr b="0" lang="en-US" sz="2000" spc="-1" strike="noStrike">
                <a:solidFill>
                  <a:srgbClr val="000000"/>
                </a:solidFill>
                <a:latin typeface="Arial"/>
              </a:rPr>
              <a:t>, including educational programmes for boys and girls during their schooling, which stress the unacceptable nature of discrimination based on sex, and its disastrous consequences, the importance of gender equality and the dignity and integrity of every human be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sal for a Council Framework Decision on preventing and combating trafficking in human beings, and protecting victims, repealing Framework Decision 2002</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 12</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ion</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Member State shall seek to discourage the demand that fosters all forms of exploitation.</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Each Member State shall promote regular training for officials likely to come into contact with victims and potential victims, including front-line police officers, aimed at enabling them to identify victims and potential victims, and deal with particularly vulnerable victims referred to in Article 9(1) and 9(2) of this Framework Decision.</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t>
            </a:r>
            <a:r>
              <a:rPr b="0" lang="en-US" sz="2000" spc="-1" strike="noStrike">
                <a:solidFill>
                  <a:srgbClr val="ff3300"/>
                </a:solidFill>
                <a:latin typeface="Arial"/>
              </a:rPr>
              <a:t>Without prejudice to Community law, each Member State shall consider taking measures to establish as a criminal offence the use of services which are the object of exploitation as referred to in Articles 1 and 2 with the knowledge that the person is a victim of an offence referred to in Articles 1 and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 TO PREVENT, SUPPRESS AND PUNISH </a:t>
            </a:r>
            <a:br>
              <a:rPr sz="2400"/>
            </a:br>
            <a:r>
              <a:rPr b="1" lang="en-US" sz="2400" spc="-1" strike="noStrike">
                <a:solidFill>
                  <a:srgbClr val="000000"/>
                </a:solidFill>
                <a:latin typeface="Arial"/>
              </a:rPr>
              <a:t>TRAFFICKING IN PERSONS, ESPECIALLY WOMEN </a:t>
            </a:r>
            <a:br>
              <a:rPr sz="2400"/>
            </a:br>
            <a:r>
              <a:rPr b="1" lang="en-US" sz="2400" spc="-1" strike="noStrike">
                <a:solidFill>
                  <a:srgbClr val="000000"/>
                </a:solidFill>
                <a:latin typeface="Arial"/>
              </a:rPr>
              <a:t>AND CHILDREN</a:t>
            </a:r>
            <a:endParaRPr b="0" lang="en-US" sz="2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fficking in persons” shall mean the recruitment, transportation, transfer, harbouring or receipt of persons, by means of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reat or use of force or other forms of coercion, of abduction, of fraud, of</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eception, of the abuse of power or of a position of vulnerability</a:t>
            </a:r>
            <a:r>
              <a:rPr b="0" lang="en-US" sz="2800" spc="-1" strike="noStrike">
                <a:solidFill>
                  <a:srgbClr val="000000"/>
                </a:solidFill>
                <a:latin typeface="Arial"/>
              </a:rPr>
              <a:t> or of th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ing or receiving of payments or benefits to achieve the consent of a person having control over another pers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 for a Council Framework Decision on preventing and combating trafficking in human beings, and protecting victims, repealing Framework Decision 2002</a:t>
            </a:r>
            <a:endParaRPr b="0" lang="en-US" sz="2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nces concerning trafficking in human being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Each Member State shall take the necessary measures to ensure that the following acts are punish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ruitment, transportation, transfer, harbouring or receipt of persons, by means of the threat or use of force or other forms of coercion, of abduction, of fraud, of deception, </a:t>
            </a:r>
            <a:r>
              <a:rPr b="0" lang="en-US" sz="1800" spc="-1" strike="noStrike">
                <a:solidFill>
                  <a:srgbClr val="ff3300"/>
                </a:solidFill>
                <a:latin typeface="Arial"/>
              </a:rPr>
              <a:t>of the abuse of power or of a position of vulnerability</a:t>
            </a:r>
            <a:r>
              <a:rPr b="0" lang="en-US" sz="1800" spc="-1" strike="noStrike">
                <a:solidFill>
                  <a:srgbClr val="000000"/>
                </a:solidFill>
                <a:latin typeface="Arial"/>
              </a:rPr>
              <a:t> or of the giving or receiving of payments or benefits to achieve the consent of a person having control over another person, for the purpose of exploit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en-US" sz="1800" spc="-1" strike="noStrike">
                <a:solidFill>
                  <a:srgbClr val="ff3300"/>
                </a:solidFill>
                <a:latin typeface="Arial"/>
              </a:rPr>
              <a:t>A position of vulnerability occurs when the person has no real or acceptable alternative but to submit to the abuse involved</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Exploitation shall include, as a minimum, the exploitation of the prostitution of others or other forms of sexual exploitation, forced labour or services, slavery or practices similar to slavery, servitude, exploitation of activities associated with begging or of unlawful activities, or the removal of orga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a:solidFill>
                  <a:srgbClr val="ff3300"/>
                </a:solidFill>
                <a:latin typeface="Arial"/>
              </a:rPr>
              <a:t>The consent of a victim of trafficking in human beings to the exploitation, intended or actual, shall be irrelevant where any of the means set forth in paragraph 1 have been used</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14:21:44Z</dcterms:created>
  <dc:creator>TCDUser</dc:creator>
  <dc:description/>
  <dc:language>en-US</dc:language>
  <cp:lastModifiedBy>fjoyce</cp:lastModifiedBy>
  <dcterms:modified xsi:type="dcterms:W3CDTF">2009-09-02T16:07:52Z</dcterms:modified>
  <cp:revision>6</cp:revision>
  <dc:subject/>
  <dc:title>Trafficking</dc:title>
</cp:coreProperties>
</file>